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60280" y="682200"/>
            <a:ext cx="45385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BB50C07-6AE6-49BC-8989-5D843FF2FE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87C8CA74-7CED-47AA-84BD-79A36C4210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1C910F96-BC0C-4521-A221-404E60484C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17C4AB-1A23-4EF3-9164-3CF54912F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2B91468C-2172-49B9-9A09-BFE61C0C82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81399C-F4D9-46FB-89F3-C6511592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B9817D79-4AB5-46C6-A169-D53DD59F37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7E6BF2-77D1-498D-83FA-C1D08F22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73BFB9F1-EF62-4E5C-8F85-A99B49C182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EF01B7-4D4F-489D-B764-683AF174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614D583C-5D71-496E-97CB-3F23243A93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95FA2-B33E-45ED-A7FB-D822CE63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4E34E000-93B4-4A4C-8885-5B78C1F82A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38520" cy="3405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14960"/>
            <a:ext cx="5486400" cy="40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144-2D5A-4048-A18A-14A36225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46A-1F90-4FBC-85F2-E0FD4AEC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90F-FE80-470C-ABBA-4C4DA12D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7D5-3C30-4C61-ADBD-5AAA6BB6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C473-1602-45E2-8C1B-9F935370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6487-A961-48D9-BE02-328230D9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8DDE-42A3-4219-8528-BEB14263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9900-047C-4EBC-8600-B20FFBCF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D16B-E5B3-4BAE-A8DA-38CE0AFF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420-33E8-460F-8A16-1D52EB06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1259-DBDC-4C77-98BB-3417868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325-C12C-466C-9835-02955680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9E8A-084E-4CB2-A62A-3554C3B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9FC3-FCDD-4986-9FA7-9CBC3C0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FF9C-ECF8-4E1C-A422-B70CE861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6083-2998-4C83-AD0A-731386EE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98A9-0155-41BC-95CB-3A11A777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DF3-0533-42E5-B0E3-F111CF54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A93-3287-4A70-8E81-FCEFEB9D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AF2-7FB6-4BC9-8931-C945025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E1E-3064-467F-98C7-848278C7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A2D-F098-47DD-93F9-F333DC8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273-09B2-4D16-A289-EE3B699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E07-78F1-429F-8CC5-EA964CB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1934-8CFD-4982-8987-FC30D0D570C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07E-4CC3-4F75-8B14-0FB3979DBF4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13A-935E-4866-B8B5-524F2F429D8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7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Kaye Appleb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</a:rPr>
              <a:t>Silvana Simo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A5BA-CE1E-4766-835E-086A539BA34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6.1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F053-9D36-4916-B073-CF96B229185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62B-9CC3-4253-A58D-35D77C71F25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61840" indent="-4640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6C1F-49CF-44AD-91DA-63C855FA250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6.2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7FD4-2DE4-4E96-B10A-D0DA3224C6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50AF-954B-4BF1-8282-86970BD14AF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Anthony</cp:lastModifiedBy>
  <dcterms:modified xsi:type="dcterms:W3CDTF">2009-08-24T05:39:40Z</dcterms:modified>
  <cp:revision>175</cp:revision>
  <dc:subject/>
  <dc:title>Math GAINS 2008-09</dc:title>
</cp:coreProperties>
</file>